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FC6-0A17-4FFD-9469-05999934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5D9-BA23-4C67-B18C-A83A77F4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C5E-3CC2-4403-B365-ABF5242D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25B-88B3-4272-A2E4-0C268BC9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2A7-0924-40C6-A83B-CD55F7EE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F0F-B9AE-4333-881C-3BF08E09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6CD-77CF-4B3C-A695-3B2479CC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CA8-19C7-4887-8BF5-528AE587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569-0BB3-430F-A851-7D3551E5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061-E5A4-498A-AB22-AA2A813E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67D-BA50-4EC0-B3BA-3FBADD50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BF0-B539-4B0C-88A1-D07639CC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Book Antiqua"/>
              </a:rPr>
              <a:t>PS&amp;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Book Antiqua"/>
              </a:rPr>
              <a:t>Retirement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D5C8-1E4B-4ABB-A8B1-8ED761687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410080" y="658800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505320" y="6588000"/>
            <a:ext cx="193680" cy="19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irem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Red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ncer Schwar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Wit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19160" cy="185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Golf"/>
          <p:cNvPicPr/>
          <p:nvPr/>
        </p:nvPicPr>
        <p:blipFill>
          <a:blip r:embed="rId2"/>
          <a:stretch/>
        </p:blipFill>
        <p:spPr>
          <a:xfrm>
            <a:off x="6675480" y="3352680"/>
            <a:ext cx="2239920" cy="335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13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Snaps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61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s the question on everyone’s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 today to help plan for 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use &amp; ad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you drive to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vs. Y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Anyon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interested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in a cop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would you rather 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822320"/>
            <a:ext cx="4267080" cy="282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025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ill you be able to reti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what age would you like to ret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money would you like to be able to spend each year after you ret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probability that you will have enough money to retire when you want?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US Dollar Bills"/>
          <p:cNvPicPr/>
          <p:nvPr/>
        </p:nvPicPr>
        <p:blipFill>
          <a:blip r:embed="rId1"/>
          <a:stretch/>
        </p:blipFill>
        <p:spPr>
          <a:xfrm>
            <a:off x="5638680" y="4572000"/>
            <a:ext cx="2667240" cy="177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put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ed age at ret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sa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salary you expect to save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amount you would like to spend after you retire (in today’s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x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x de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curity &amp; Pension amounts you expect to receive after ret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Federal &amp; State tax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large expected cash inflows or out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put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Variables </a:t>
            </a: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(Green Cel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annual returns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able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 deferred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annual return post retirement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inflation rate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33920" y="4568760"/>
            <a:ext cx="171432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utput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irement Answers </a:t>
            </a: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(Blue Cel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ings balance at desired retirement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having a positive cash balance in the year you pass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ed model working in the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IF(B8&lt;Inputs!$C$6,(Inputs!$C$9*(1+Inputs!$G$9)^A8*Inputs!$G$15)*(1-SUM(Inputs!$C$16:$C$17))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IF(B5=VLOOKUP(B5,Inputs!$C$29:$G$35,1),(VLOOKUP(B5,Inputs!$C$29:$G$35,5)),0)*(1+Inputs!$H$14)^A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14840" y="3046320"/>
            <a:ext cx="5608440" cy="360"/>
            <a:chOff x="3714840" y="3046320"/>
            <a:chExt cx="5608440" cy="360"/>
          </a:xfrm>
        </p:grpSpPr>
        <p:sp>
          <p:nvSpPr>
            <p:cNvPr id="65" name=""/>
            <p:cNvSpPr/>
            <p:nvPr/>
          </p:nvSpPr>
          <p:spPr>
            <a:xfrm>
              <a:off x="3714840" y="3046320"/>
              <a:ext cx="5608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4840" y="3046320"/>
              <a:ext cx="5608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43880" y="5940360"/>
            <a:ext cx="171432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essor Du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6 years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like to retire at age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expectancy of 8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YC college professor &amp; consul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investment history with strong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like to spend $50k/year after ret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ughter is getting married next year ($50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Photo of David C. Juran"/>
          <p:cNvPicPr/>
          <p:nvPr/>
        </p:nvPicPr>
        <p:blipFill>
          <a:blip r:embed="rId1"/>
          <a:stretch/>
        </p:blipFill>
        <p:spPr>
          <a:xfrm>
            <a:off x="7280280" y="228600"/>
            <a:ext cx="155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09760" y="1333440"/>
          <a:ext cx="8124480" cy="54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333440"/>
                    <a:ext cx="812448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Will Professor Dur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have enough to reti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when he wa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Photo of David C. Juran"/>
          <p:cNvPicPr/>
          <p:nvPr/>
        </p:nvPicPr>
        <p:blipFill>
          <a:blip r:embed="rId1"/>
          <a:stretch/>
        </p:blipFill>
        <p:spPr>
          <a:xfrm>
            <a:off x="7280280" y="228600"/>
            <a:ext cx="155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6:23:23Z</dcterms:created>
  <dc:creator>jwitmer</dc:creator>
  <dc:description/>
  <dc:language>en-US</dc:language>
  <cp:lastModifiedBy>Paul Redner</cp:lastModifiedBy>
  <dcterms:modified xsi:type="dcterms:W3CDTF">2006-11-18T15:30:50Z</dcterms:modified>
  <cp:revision>34</cp:revision>
  <dc:subject/>
  <dc:title>Retirement Model</dc:title>
</cp:coreProperties>
</file>